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7.wmf" ContentType="image/x-wmf"/>
  <Override PartName="/ppt/media/image30.jpeg" ContentType="image/jpeg"/>
  <Override PartName="/ppt/media/image9.jpeg" ContentType="image/jpeg"/>
  <Override PartName="/ppt/media/image10.wmf" ContentType="image/x-wmf"/>
  <Override PartName="/ppt/media/image31.gif" ContentType="image/gif"/>
  <Override PartName="/ppt/media/image17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1.jpeg" ContentType="image/jpeg"/>
  <Override PartName="/ppt/media/image2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352D-4B0B-4971-AC01-70835146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4567-F1FA-4A85-8109-7BD4FC22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C16B-3809-4F38-B94D-0556F4F5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2B61-6DC8-4AE3-83AA-6D9D2FDF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6E80-E1E7-4D30-ABC8-4DC7C611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175-38F7-43D1-8BD2-639F61D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6E4E-C8AC-46A2-95F1-4D67D232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E1EF-87A1-48A1-83D5-7D32FEA8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EB0-E169-400F-8C46-4AE68BE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EF69-204C-4CC3-B847-E0BEFCEC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C4E-1EC5-4690-A25F-563CF064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7FE4-2329-4F28-8469-C14CF76F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019C-5E7C-4F5B-AC8A-4D92316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212D-33B9-45A0-B59B-221CD8C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B0F1-39A6-4282-940B-A5E6D12C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89D-4E65-4349-9493-3AA504C8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425-08BE-40D5-831F-497BAD01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ACF3-0758-4D08-A0CA-E8075AD6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DCA8-0D7F-43F9-A5F1-7ADD4AE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A10E-5980-4124-952E-645945E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AAE6-2460-4038-9D69-075354C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F861-D364-4761-A75F-8CF5CC7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283B-FBAF-43BD-91A4-7121BCD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FB15-96FD-434B-A8EB-29711D2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24F-EF9A-4AAA-96D3-D61F34937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AD2-463E-4141-84F2-1D761E1839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8193B5EF-1E0C-4346-B4F3-ADA80CB35FB3&amp;blnFromSearch=1&amp;productcode=U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. 6 Sports &amp; Condition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1: Individual and Team Sp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031840" cy="227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1706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orts &amp; Competition p. 15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sports can be played on several levels: to increase your degree of fitness, to improve your skills, or with the goal of compet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ompetition – rivalry between two or more individuals or groups trying to reach the same go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you play team sports competitively, your goal is to help your team win the ga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n individual competitive sport, your goal is to run faster, jump higher, and score more points than the other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5410080"/>
            <a:ext cx="897120" cy="1236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alue of Competition Fig. 6.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. Competition gives you a reason to work hard, practice, and make your best eff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. Competition helps you develop mental focus, a skill that will be useful in other areas of your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. Competition allows you to learn the value of encouraging others and receiving their encourag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. Competition offers you a chance to improve your skills and feel good about your accomplish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2033640" cy="127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8120" y="5334120"/>
            <a:ext cx="2057400" cy="1353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00800" y="5410080"/>
            <a:ext cx="12002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Benefits of swim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BELL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List as many different sports as you can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781280" cy="1060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72000" y="275904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657600" y="46483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ening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hat role do sports play in a healthy lifestyl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w can you choose which sports to play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hat are some benefits of competi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1825920" cy="1127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3538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orts &amp; You p. 15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art &amp; follow a well-thought-out exercise progra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way to remain fit is to play spor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me people play sports for fun, others make a serious commitm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Commitment – a pledge or promi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467480" y="5181480"/>
            <a:ext cx="1516320" cy="151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120160" y="2438280"/>
            <a:ext cx="1023840" cy="2470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14479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itment…. p. 15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ves dedicating yourself to something over a period of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’re committed to a sport, you learn all you can about it, practice regularly, and work to develop the necessary ski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oming involved in sports can result in a lifetime of fit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nis, golf, and swimming are good lifetime sports (for people of any 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988800">
            <a:off x="7391520" y="5409720"/>
            <a:ext cx="1371600" cy="118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09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osing Sports Activ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like about spor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ying fit? The excitement? Satisfaction of mastering a skil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’ll be most likely to get the greatest benefit out of a sport if you enjoy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1825920" cy="182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4952880"/>
            <a:ext cx="1781280" cy="13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312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ividual S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ndividual sports are physical activities you can take part in by yourself or with a friend, without being part of a te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rseback ri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ateboar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f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19717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441440" cy="1909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438280"/>
            <a:ext cx="1920600" cy="1308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315200" y="4343400"/>
            <a:ext cx="1279440" cy="1924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876920" y="4343400"/>
            <a:ext cx="15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ividual Sports p. 15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advantag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set your own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 your level of commit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don’t have to be compared to anyone el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set the pace of the activ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the other hand… You miss some of the social, mental, and emotional benefits of playing on a te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838080"/>
            <a:ext cx="104616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916200" cy="84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10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am S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eam Sports – organized physical activities with specific rules, played by opposing groups of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Baseball, basketball, football, soccer, and volleyba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advantages: companionship and encouragement of teammates and coaches, playing against another team may push you to excel, keeping up with regularly scheduled practice can help you become more respon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10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2:54:26Z</dcterms:created>
  <dc:creator>GSCS</dc:creator>
  <dc:description/>
  <dc:language>en-US</dc:language>
  <cp:lastModifiedBy>GSCS</cp:lastModifiedBy>
  <dcterms:modified xsi:type="dcterms:W3CDTF">2010-11-08T13:34:38Z</dcterms:modified>
  <cp:revision>3</cp:revision>
  <dc:subject/>
  <dc:title>Ch. 6 Sports &amp; Conditioning</dc:title>
</cp:coreProperties>
</file>